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441-7717-48BC-B03E-6EEA6C64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E44-07BC-4732-853E-4F8FD352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1E0-C743-4E38-97A9-E5A67213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FAB-12CD-4C8D-B233-3E5303AB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740-977B-4694-AEAD-5EFBAF7F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3EE-925A-4A8F-92E3-74E48DF1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DF9-84FC-43F7-9FAA-4C1AE05E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268-90C2-41AE-A1AC-AD3D0A94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43D-6281-40EC-A33B-8E108C0A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C4B-331F-4502-B76A-9756862C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B32-7D8E-4212-93D6-E0C4B31B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C32-0870-46A6-8D6D-9E8A159D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55BC-07A5-4E00-8CEA-A6E2490CE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38080" y="0"/>
            <a:ext cx="116064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3"/>
          <p:cNvGraphicFramePr/>
          <p:nvPr/>
        </p:nvGraphicFramePr>
        <p:xfrm>
          <a:off x="7391520" y="0"/>
          <a:ext cx="123984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0"/>
                    <a:ext cx="1239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Subtitle 2"/>
          <p:cNvSpPr/>
          <p:nvPr/>
        </p:nvSpPr>
        <p:spPr>
          <a:xfrm>
            <a:off x="6172200" y="4038480"/>
            <a:ext cx="2743200" cy="228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95373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r. Solomon Menges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ddisu Ab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olomon Abey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antahun  Dere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ay,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I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09480" y="2282400"/>
            <a:ext cx="76964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94da"/>
                </a:solidFill>
                <a:latin typeface="Calibri"/>
                <a:ea typeface="ＭＳ Ｐゴシック"/>
              </a:rPr>
              <a:t>BEEF  AND FEED VALUE CHAIN STUDY IN ADAMA  ARE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7391520" y="0"/>
          <a:ext cx="1239840" cy="1219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0"/>
                    <a:ext cx="1239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C5D9-2B83-44F8-9D0E-2D6ABD312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379840"/>
          </a:xfrm>
          <a:prstGeom prst="rect">
            <a:avLst/>
          </a:prstGeom>
          <a:ln w="0">
            <a:noFill/>
          </a:ln>
        </p:spPr>
      </p:pic>
      <p:grpSp>
        <p:nvGrpSpPr>
          <p:cNvPr id="89" name="Title 3"/>
          <p:cNvGrpSpPr/>
          <p:nvPr/>
        </p:nvGrpSpPr>
        <p:grpSpPr>
          <a:xfrm>
            <a:off x="1311120" y="433440"/>
            <a:ext cx="6442200" cy="785880"/>
            <a:chOff x="1311120" y="433440"/>
            <a:chExt cx="6442200" cy="785880"/>
          </a:xfrm>
        </p:grpSpPr>
        <p:pic>
          <p:nvPicPr>
            <p:cNvPr id="90" name="Title 3" descr=""/>
            <p:cNvPicPr/>
            <p:nvPr/>
          </p:nvPicPr>
          <p:blipFill>
            <a:blip r:embed="rId2"/>
            <a:stretch/>
          </p:blipFill>
          <p:spPr>
            <a:xfrm>
              <a:off x="1311120" y="433440"/>
              <a:ext cx="64422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371600" y="533520"/>
              <a:ext cx="632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apping The Actors, Function &amp; Service Provider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n Beef Value Chai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5867280" cy="6094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Beef marketing channels identified #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685800" y="1671840"/>
            <a:ext cx="80773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one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ef cattle purchased by Hotels and individual consumers in the Adama area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hannel two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ef cattle transported from Adama to Mojo, Zeway, Bishoftu,  Dukem and Addis Ababa consumer market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three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ef cattle purchased for fattening purpose by farmers of the  Adama area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162560" cy="792000"/>
          </a:xfrm>
          <a:prstGeom prst="rect">
            <a:avLst/>
          </a:prstGeom>
          <a:solidFill>
            <a:srgbClr val="c0504d"/>
          </a:solidFill>
          <a:ln w="255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functions of the feed value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Notched Right Arrow 4"/>
          <p:cNvSpPr/>
          <p:nvPr/>
        </p:nvSpPr>
        <p:spPr>
          <a:xfrm>
            <a:off x="457200" y="1447920"/>
            <a:ext cx="1477800" cy="701640"/>
          </a:xfrm>
          <a:custGeom>
            <a:avLst/>
            <a:gdLst>
              <a:gd name="textAreaLeft" fmla="*/ 105120 w 1477800"/>
              <a:gd name="textAreaRight" fmla="*/ 1372680 w 14778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63" y="0"/>
                </a:lnTo>
                <a:lnTo>
                  <a:pt x="20063" y="0"/>
                </a:lnTo>
                <a:lnTo>
                  <a:pt x="21600" y="10800"/>
                </a:lnTo>
                <a:lnTo>
                  <a:pt x="20063" y="21600"/>
                </a:lnTo>
                <a:lnTo>
                  <a:pt x="20063" y="21600"/>
                </a:lnTo>
                <a:lnTo>
                  <a:pt x="0" y="21600"/>
                </a:lnTo>
                <a:lnTo>
                  <a:pt x="1537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Input Supp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Notched Right Arrow 5"/>
          <p:cNvSpPr/>
          <p:nvPr/>
        </p:nvSpPr>
        <p:spPr>
          <a:xfrm>
            <a:off x="1828800" y="1447920"/>
            <a:ext cx="1320840" cy="777600"/>
          </a:xfrm>
          <a:custGeom>
            <a:avLst/>
            <a:gdLst>
              <a:gd name="textAreaLeft" fmla="*/ 110520 w 1320840"/>
              <a:gd name="textAreaRight" fmla="*/ 1210320 w 1320840"/>
              <a:gd name="textAreaTop" fmla="*/ 0 h 777600"/>
              <a:gd name="textAreaBottom" fmla="*/ 777960 h 77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9" y="0"/>
                </a:lnTo>
                <a:lnTo>
                  <a:pt x="19789" y="0"/>
                </a:lnTo>
                <a:lnTo>
                  <a:pt x="21600" y="10800"/>
                </a:lnTo>
                <a:lnTo>
                  <a:pt x="19789" y="21600"/>
                </a:lnTo>
                <a:lnTo>
                  <a:pt x="19789" y="21600"/>
                </a:lnTo>
                <a:lnTo>
                  <a:pt x="0" y="21600"/>
                </a:lnTo>
                <a:lnTo>
                  <a:pt x="1811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Notched Right Arrow 6"/>
          <p:cNvSpPr/>
          <p:nvPr/>
        </p:nvSpPr>
        <p:spPr>
          <a:xfrm>
            <a:off x="3048120" y="1447920"/>
            <a:ext cx="1792080" cy="777600"/>
          </a:xfrm>
          <a:custGeom>
            <a:avLst/>
            <a:gdLst>
              <a:gd name="textAreaLeft" fmla="*/ 123120 w 1792080"/>
              <a:gd name="textAreaRight" fmla="*/ 1668960 w 1792080"/>
              <a:gd name="textAreaTop" fmla="*/ 0 h 777600"/>
              <a:gd name="textAreaBottom" fmla="*/ 777960 h 77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6" y="0"/>
                </a:lnTo>
                <a:lnTo>
                  <a:pt x="20116" y="0"/>
                </a:lnTo>
                <a:lnTo>
                  <a:pt x="21600" y="10800"/>
                </a:lnTo>
                <a:lnTo>
                  <a:pt x="20116" y="21600"/>
                </a:lnTo>
                <a:lnTo>
                  <a:pt x="20116" y="21600"/>
                </a:lnTo>
                <a:lnTo>
                  <a:pt x="0" y="21600"/>
                </a:lnTo>
                <a:lnTo>
                  <a:pt x="1484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Notched Right Arrow 7"/>
          <p:cNvSpPr/>
          <p:nvPr/>
        </p:nvSpPr>
        <p:spPr>
          <a:xfrm>
            <a:off x="4800600" y="1447920"/>
            <a:ext cx="1838160" cy="761760"/>
          </a:xfrm>
          <a:custGeom>
            <a:avLst/>
            <a:gdLst>
              <a:gd name="textAreaLeft" fmla="*/ 149760 w 1838160"/>
              <a:gd name="textAreaRight" fmla="*/ 1688400 w 18381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39" y="0"/>
                </a:lnTo>
                <a:lnTo>
                  <a:pt x="19839" y="0"/>
                </a:lnTo>
                <a:lnTo>
                  <a:pt x="21600" y="10800"/>
                </a:lnTo>
                <a:lnTo>
                  <a:pt x="19839" y="21600"/>
                </a:lnTo>
                <a:lnTo>
                  <a:pt x="19839" y="21600"/>
                </a:lnTo>
                <a:lnTo>
                  <a:pt x="0" y="21600"/>
                </a:lnTo>
                <a:lnTo>
                  <a:pt x="1761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Up Arrow Callout 8"/>
          <p:cNvSpPr/>
          <p:nvPr/>
        </p:nvSpPr>
        <p:spPr>
          <a:xfrm>
            <a:off x="81000" y="2133720"/>
            <a:ext cx="1442880" cy="3124080"/>
          </a:xfrm>
          <a:prstGeom prst="upArrowCallout">
            <a:avLst>
              <a:gd name="adj1" fmla="val 23752"/>
              <a:gd name="adj2" fmla="val 25000"/>
              <a:gd name="adj3" fmla="val 20589"/>
              <a:gd name="adj4" fmla="val 54519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eed supp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ly of fertiliz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ly of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ndustrial  by-produ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Up Arrow Callout 9"/>
          <p:cNvSpPr/>
          <p:nvPr/>
        </p:nvSpPr>
        <p:spPr>
          <a:xfrm>
            <a:off x="1627200" y="2173320"/>
            <a:ext cx="1420920" cy="3084480"/>
          </a:xfrm>
          <a:prstGeom prst="upArrowCallout">
            <a:avLst>
              <a:gd name="adj1" fmla="val 25002"/>
              <a:gd name="adj2" fmla="val 25000"/>
              <a:gd name="adj3" fmla="val 29828"/>
              <a:gd name="adj4" fmla="val 54519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680" indent="-58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ill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8680" indent="-58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plan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8680" indent="-58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wee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8680" indent="-58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Up Arrow Callout 10"/>
          <p:cNvSpPr/>
          <p:nvPr/>
        </p:nvSpPr>
        <p:spPr>
          <a:xfrm>
            <a:off x="3124080" y="2286000"/>
            <a:ext cx="1544760" cy="2971800"/>
          </a:xfrm>
          <a:prstGeom prst="upArrowCallout">
            <a:avLst>
              <a:gd name="adj1" fmla="val 28503"/>
              <a:gd name="adj2" fmla="val 25000"/>
              <a:gd name="adj3" fmla="val 10661"/>
              <a:gd name="adj4" fmla="val 29644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Bali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ck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nding/crush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Mix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Up Arrow Callout 11"/>
          <p:cNvSpPr/>
          <p:nvPr/>
        </p:nvSpPr>
        <p:spPr>
          <a:xfrm>
            <a:off x="6629400" y="2209680"/>
            <a:ext cx="1865160" cy="3048120"/>
          </a:xfrm>
          <a:prstGeom prst="upArrowCallout">
            <a:avLst>
              <a:gd name="adj1" fmla="val 25002"/>
              <a:gd name="adj2" fmla="val 25000"/>
              <a:gd name="adj3" fmla="val 11742"/>
              <a:gd name="adj4" fmla="val 3850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 Formul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reat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lemen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109"/>
          <p:cNvSpPr/>
          <p:nvPr/>
        </p:nvSpPr>
        <p:spPr>
          <a:xfrm>
            <a:off x="6629400" y="1447920"/>
            <a:ext cx="2041560" cy="761760"/>
          </a:xfrm>
          <a:custGeom>
            <a:avLst/>
            <a:gdLst>
              <a:gd name="textAreaLeft" fmla="*/ 164520 w 2041560"/>
              <a:gd name="textAreaRight" fmla="*/ 1877040 w 20415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7" y="0"/>
                </a:lnTo>
                <a:lnTo>
                  <a:pt x="19857" y="0"/>
                </a:lnTo>
                <a:lnTo>
                  <a:pt x="21600" y="10800"/>
                </a:lnTo>
                <a:lnTo>
                  <a:pt x="19857" y="21600"/>
                </a:lnTo>
                <a:lnTo>
                  <a:pt x="19857" y="21600"/>
                </a:lnTo>
                <a:lnTo>
                  <a:pt x="0" y="21600"/>
                </a:lnTo>
                <a:lnTo>
                  <a:pt x="1743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onsump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110"/>
          <p:cNvSpPr/>
          <p:nvPr/>
        </p:nvSpPr>
        <p:spPr>
          <a:xfrm>
            <a:off x="4800600" y="2209680"/>
            <a:ext cx="1657440" cy="3048120"/>
          </a:xfrm>
          <a:prstGeom prst="upArrowCallout">
            <a:avLst>
              <a:gd name="adj1" fmla="val 25002"/>
              <a:gd name="adj2" fmla="val 25000"/>
              <a:gd name="adj3" fmla="val 14644"/>
              <a:gd name="adj4" fmla="val 34868"/>
            </a:avLst>
          </a:prstGeom>
          <a:solidFill>
            <a:srgbClr val="9bbb59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ranspor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Retai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Whole sel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ed VC Actors, functions &amp; Support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oup 39"/>
          <p:cNvGrpSpPr/>
          <p:nvPr/>
        </p:nvGrpSpPr>
        <p:grpSpPr>
          <a:xfrm>
            <a:off x="762120" y="1219320"/>
            <a:ext cx="7924680" cy="5241960"/>
            <a:chOff x="762120" y="1219320"/>
            <a:chExt cx="7924680" cy="5241960"/>
          </a:xfrm>
        </p:grpSpPr>
        <p:sp>
          <p:nvSpPr>
            <p:cNvPr id="107" name="Freeform 40"/>
            <p:cNvSpPr/>
            <p:nvPr/>
          </p:nvSpPr>
          <p:spPr>
            <a:xfrm rot="16200000">
              <a:off x="5545800" y="811800"/>
              <a:ext cx="712080" cy="4759920"/>
            </a:xfrm>
            <a:custGeom>
              <a:avLst/>
              <a:gdLst>
                <a:gd name="textAreaLeft" fmla="*/ 0 w 712080"/>
                <a:gd name="textAreaRight" fmla="*/ 712440 w 712080"/>
                <a:gd name="textAreaTop" fmla="*/ 0 h 4759920"/>
                <a:gd name="textAreaBottom" fmla="*/ 4760280 h 4759920"/>
              </a:gdLst>
              <a:ahLst/>
              <a:rect l="textAreaLeft" t="textAreaTop" r="textAreaRight" b="textAreaBottom"/>
              <a:pathLst>
                <a:path w="543162" h="1609012">
                  <a:moveTo>
                    <a:pt x="0" y="1609012"/>
                  </a:moveTo>
                  <a:lnTo>
                    <a:pt x="0" y="305529"/>
                  </a:lnTo>
                  <a:cubicBezTo>
                    <a:pt x="0" y="174288"/>
                    <a:pt x="106392" y="67896"/>
                    <a:pt x="237633" y="67896"/>
                  </a:cubicBezTo>
                  <a:lnTo>
                    <a:pt x="407372" y="67895"/>
                  </a:lnTo>
                  <a:lnTo>
                    <a:pt x="407372" y="0"/>
                  </a:lnTo>
                  <a:lnTo>
                    <a:pt x="543162" y="135791"/>
                  </a:lnTo>
                  <a:lnTo>
                    <a:pt x="407372" y="271581"/>
                  </a:lnTo>
                  <a:lnTo>
                    <a:pt x="407372" y="203686"/>
                  </a:lnTo>
                  <a:lnTo>
                    <a:pt x="237633" y="203686"/>
                  </a:lnTo>
                  <a:cubicBezTo>
                    <a:pt x="181387" y="203686"/>
                    <a:pt x="135790" y="249283"/>
                    <a:pt x="135790" y="305529"/>
                  </a:cubicBezTo>
                  <a:cubicBezTo>
                    <a:pt x="135790" y="740023"/>
                    <a:pt x="135791" y="1174518"/>
                    <a:pt x="135791" y="1609012"/>
                  </a:cubicBezTo>
                  <a:lnTo>
                    <a:pt x="0" y="1609012"/>
                  </a:lnTo>
                  <a:close/>
                </a:path>
              </a:pathLst>
            </a:custGeom>
            <a:solidFill>
              <a:srgbClr val="d9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41"/>
            <p:cNvSpPr/>
            <p:nvPr/>
          </p:nvSpPr>
          <p:spPr>
            <a:xfrm flipH="1" rot="5400000">
              <a:off x="5536800" y="787320"/>
              <a:ext cx="925560" cy="4836960"/>
            </a:xfrm>
            <a:custGeom>
              <a:avLst/>
              <a:gdLst>
                <a:gd name="textAreaLeft" fmla="*/ -360 w 925560"/>
                <a:gd name="textAreaRight" fmla="*/ 925560 w 925560"/>
                <a:gd name="textAreaTop" fmla="*/ 0 h 4836960"/>
                <a:gd name="textAreaBottom" fmla="*/ 4837320 h 4836960"/>
              </a:gdLst>
              <a:ahLst/>
              <a:rect l="textAreaLeft" t="textAreaTop" r="textAreaRight" b="textAreaBottom"/>
              <a:pathLst>
                <a:path w="543162" h="1609012">
                  <a:moveTo>
                    <a:pt x="0" y="1609012"/>
                  </a:moveTo>
                  <a:lnTo>
                    <a:pt x="0" y="305529"/>
                  </a:lnTo>
                  <a:cubicBezTo>
                    <a:pt x="0" y="174288"/>
                    <a:pt x="106392" y="67896"/>
                    <a:pt x="237633" y="67896"/>
                  </a:cubicBezTo>
                  <a:lnTo>
                    <a:pt x="407372" y="67895"/>
                  </a:lnTo>
                  <a:lnTo>
                    <a:pt x="407372" y="0"/>
                  </a:lnTo>
                  <a:lnTo>
                    <a:pt x="543162" y="135791"/>
                  </a:lnTo>
                  <a:lnTo>
                    <a:pt x="407372" y="271581"/>
                  </a:lnTo>
                  <a:lnTo>
                    <a:pt x="407372" y="203686"/>
                  </a:lnTo>
                  <a:lnTo>
                    <a:pt x="237633" y="203686"/>
                  </a:lnTo>
                  <a:cubicBezTo>
                    <a:pt x="181387" y="203686"/>
                    <a:pt x="135790" y="249283"/>
                    <a:pt x="135790" y="305529"/>
                  </a:cubicBezTo>
                  <a:cubicBezTo>
                    <a:pt x="135790" y="740023"/>
                    <a:pt x="135791" y="1174518"/>
                    <a:pt x="135791" y="1609012"/>
                  </a:cubicBezTo>
                  <a:lnTo>
                    <a:pt x="0" y="1609012"/>
                  </a:lnTo>
                  <a:close/>
                </a:path>
              </a:pathLst>
            </a:custGeom>
            <a:solidFill>
              <a:srgbClr val="0070c0"/>
            </a:solidFill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Group 42"/>
            <p:cNvGrpSpPr/>
            <p:nvPr/>
          </p:nvGrpSpPr>
          <p:grpSpPr>
            <a:xfrm>
              <a:off x="762120" y="1219320"/>
              <a:ext cx="7924680" cy="5241960"/>
              <a:chOff x="762120" y="1219320"/>
              <a:chExt cx="7924680" cy="5241960"/>
            </a:xfrm>
          </p:grpSpPr>
          <p:pic>
            <p:nvPicPr>
              <p:cNvPr id="110" name="AutoShape 51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2950560"/>
                <a:ext cx="1610280" cy="865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1" name="Group 44"/>
              <p:cNvGrpSpPr/>
              <p:nvPr/>
            </p:nvGrpSpPr>
            <p:grpSpPr>
              <a:xfrm>
                <a:off x="786240" y="1219320"/>
                <a:ext cx="7900560" cy="5241960"/>
                <a:chOff x="786240" y="1219320"/>
                <a:chExt cx="7900560" cy="5241960"/>
              </a:xfrm>
            </p:grpSpPr>
            <p:sp>
              <p:nvSpPr>
                <p:cNvPr id="112" name="AutoShape 50"/>
                <p:cNvSpPr/>
                <p:nvPr/>
              </p:nvSpPr>
              <p:spPr>
                <a:xfrm>
                  <a:off x="786240" y="2119680"/>
                  <a:ext cx="1575000" cy="744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c0504d"/>
                </a:solidFill>
                <a:ln w="38160">
                  <a:solidFill>
                    <a:srgbClr val="92d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Consum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3" name="AutoShape 52"/>
                <p:cNvSpPr/>
                <p:nvPr/>
              </p:nvSpPr>
              <p:spPr>
                <a:xfrm>
                  <a:off x="813240" y="1229400"/>
                  <a:ext cx="1597320" cy="773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c0504d"/>
                </a:solidFill>
                <a:ln w="25560">
                  <a:solidFill>
                    <a:srgbClr val="8c38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Calibri"/>
                      <a:ea typeface="Times New Roman"/>
                    </a:rPr>
                    <a:t>Enabling Enviro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" name="AutoShape 53"/>
                <p:cNvSpPr/>
                <p:nvPr/>
              </p:nvSpPr>
              <p:spPr>
                <a:xfrm>
                  <a:off x="786240" y="4781520"/>
                  <a:ext cx="1653120" cy="653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b050"/>
                </a:solidFill>
                <a:ln w="38160">
                  <a:solidFill>
                    <a:srgbClr val="00b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Produc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AutoShape 56"/>
                <p:cNvSpPr/>
                <p:nvPr/>
              </p:nvSpPr>
              <p:spPr>
                <a:xfrm>
                  <a:off x="2705760" y="4935600"/>
                  <a:ext cx="1802880" cy="459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b050"/>
                </a:solidFill>
                <a:ln w="38160">
                  <a:solidFill>
                    <a:srgbClr val="00b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Smallholder farmer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AutoShape 57"/>
                <p:cNvSpPr/>
                <p:nvPr/>
              </p:nvSpPr>
              <p:spPr>
                <a:xfrm>
                  <a:off x="6004080" y="4781520"/>
                  <a:ext cx="2678760" cy="653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b050"/>
                </a:solidFill>
                <a:ln w="38160">
                  <a:solidFill>
                    <a:srgbClr val="00b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Agro-processing industr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AutoShape 58"/>
                <p:cNvSpPr/>
                <p:nvPr/>
              </p:nvSpPr>
              <p:spPr>
                <a:xfrm>
                  <a:off x="3165120" y="4045320"/>
                  <a:ext cx="1362600" cy="6256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70c0"/>
                </a:solidFill>
                <a:ln w="38160">
                  <a:solidFill>
                    <a:srgbClr val="0070c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Trader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AutoShape 59"/>
                <p:cNvSpPr/>
                <p:nvPr/>
              </p:nvSpPr>
              <p:spPr>
                <a:xfrm>
                  <a:off x="6112080" y="3951000"/>
                  <a:ext cx="1362600" cy="6256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70c0"/>
                </a:solidFill>
                <a:ln w="38160">
                  <a:solidFill>
                    <a:srgbClr val="0070c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Unions/coop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AutoShape 60"/>
                <p:cNvSpPr/>
                <p:nvPr/>
              </p:nvSpPr>
              <p:spPr>
                <a:xfrm>
                  <a:off x="2822760" y="2127960"/>
                  <a:ext cx="1761480" cy="689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c0504d"/>
                </a:solidFill>
                <a:ln w="38160">
                  <a:solidFill>
                    <a:srgbClr val="92d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Small holder Cattle fattener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AutoShape 61"/>
                <p:cNvSpPr/>
                <p:nvPr/>
              </p:nvSpPr>
              <p:spPr>
                <a:xfrm>
                  <a:off x="4760280" y="2170800"/>
                  <a:ext cx="2032920" cy="646920"/>
                </a:xfrm>
                <a:prstGeom prst="cube">
                  <a:avLst>
                    <a:gd name="adj" fmla="val 18143"/>
                  </a:avLst>
                </a:prstGeom>
                <a:solidFill>
                  <a:srgbClr val="c0504d"/>
                </a:solidFill>
                <a:ln w="38160">
                  <a:solidFill>
                    <a:srgbClr val="92d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Institution/colleges, research centers etc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AutoShape 62"/>
                <p:cNvSpPr/>
                <p:nvPr/>
              </p:nvSpPr>
              <p:spPr>
                <a:xfrm>
                  <a:off x="7022520" y="2119680"/>
                  <a:ext cx="1664280" cy="659880"/>
                </a:xfrm>
                <a:prstGeom prst="cube">
                  <a:avLst>
                    <a:gd name="adj" fmla="val 20504"/>
                  </a:avLst>
                </a:prstGeom>
                <a:solidFill>
                  <a:srgbClr val="c0504d"/>
                </a:solidFill>
                <a:ln w="38160">
                  <a:solidFill>
                    <a:srgbClr val="92d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Urban &amp; peri-urban farmer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" name="AutoShape 63"/>
                <p:cNvSpPr/>
                <p:nvPr/>
              </p:nvSpPr>
              <p:spPr>
                <a:xfrm>
                  <a:off x="3742200" y="4670280"/>
                  <a:ext cx="379800" cy="36072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00b050"/>
                </a:solidFill>
                <a:ln w="93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" name="AutoShape 64"/>
                <p:cNvSpPr/>
                <p:nvPr/>
              </p:nvSpPr>
              <p:spPr>
                <a:xfrm>
                  <a:off x="6598800" y="4575960"/>
                  <a:ext cx="379800" cy="456120"/>
                </a:xfrm>
                <a:prstGeom prst="upArrow">
                  <a:avLst>
                    <a:gd name="adj1" fmla="val 50000"/>
                    <a:gd name="adj2" fmla="val 30024"/>
                  </a:avLst>
                </a:prstGeom>
                <a:solidFill>
                  <a:srgbClr val="d9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AutoShape 65"/>
                <p:cNvSpPr/>
                <p:nvPr/>
              </p:nvSpPr>
              <p:spPr>
                <a:xfrm>
                  <a:off x="2777760" y="2787120"/>
                  <a:ext cx="379800" cy="2241360"/>
                </a:xfrm>
                <a:prstGeom prst="upArrow">
                  <a:avLst>
                    <a:gd name="adj1" fmla="val 49806"/>
                    <a:gd name="adj2" fmla="val 96363"/>
                  </a:avLst>
                </a:prstGeom>
                <a:solidFill>
                  <a:srgbClr val="c0504d"/>
                </a:solidFill>
                <a:ln w="93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" name="Freeform 58"/>
                <p:cNvSpPr/>
                <p:nvPr/>
              </p:nvSpPr>
              <p:spPr>
                <a:xfrm flipH="1" rot="5400000">
                  <a:off x="5157000" y="613800"/>
                  <a:ext cx="533880" cy="4887000"/>
                </a:xfrm>
                <a:custGeom>
                  <a:avLst/>
                  <a:gdLst>
                    <a:gd name="textAreaLeft" fmla="*/ -360 w 533880"/>
                    <a:gd name="textAreaRight" fmla="*/ 533880 w 533880"/>
                    <a:gd name="textAreaTop" fmla="*/ 0 h 4887000"/>
                    <a:gd name="textAreaBottom" fmla="*/ 4887360 h 4887000"/>
                  </a:gdLst>
                  <a:ahLst/>
                  <a:rect l="textAreaLeft" t="textAreaTop" r="textAreaRight" b="textAreaBottom"/>
                  <a:pathLst>
                    <a:path w="543162" h="1609012">
                      <a:moveTo>
                        <a:pt x="0" y="1609012"/>
                      </a:moveTo>
                      <a:lnTo>
                        <a:pt x="0" y="305529"/>
                      </a:lnTo>
                      <a:cubicBezTo>
                        <a:pt x="0" y="174288"/>
                        <a:pt x="106392" y="67896"/>
                        <a:pt x="237633" y="67896"/>
                      </a:cubicBezTo>
                      <a:lnTo>
                        <a:pt x="407372" y="67895"/>
                      </a:lnTo>
                      <a:lnTo>
                        <a:pt x="407372" y="0"/>
                      </a:lnTo>
                      <a:lnTo>
                        <a:pt x="543162" y="135791"/>
                      </a:lnTo>
                      <a:lnTo>
                        <a:pt x="407372" y="271581"/>
                      </a:lnTo>
                      <a:lnTo>
                        <a:pt x="407372" y="203686"/>
                      </a:lnTo>
                      <a:lnTo>
                        <a:pt x="237633" y="203686"/>
                      </a:lnTo>
                      <a:cubicBezTo>
                        <a:pt x="181387" y="203686"/>
                        <a:pt x="135790" y="249283"/>
                        <a:pt x="135790" y="305529"/>
                      </a:cubicBezTo>
                      <a:cubicBezTo>
                        <a:pt x="135790" y="740023"/>
                        <a:pt x="135791" y="1174518"/>
                        <a:pt x="135791" y="1609012"/>
                      </a:cubicBezTo>
                      <a:lnTo>
                        <a:pt x="0" y="1609012"/>
                      </a:lnTo>
                      <a:close/>
                    </a:path>
                  </a:pathLst>
                </a:custGeom>
                <a:solidFill>
                  <a:srgbClr val="00b050"/>
                </a:solidFill>
                <a:ln w="9360">
                  <a:solidFill>
                    <a:srgbClr val="00b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AutoShape 92"/>
                <p:cNvSpPr/>
                <p:nvPr/>
              </p:nvSpPr>
              <p:spPr>
                <a:xfrm rot="10800000">
                  <a:off x="8013600" y="2795400"/>
                  <a:ext cx="535320" cy="2222280"/>
                </a:xfrm>
                <a:prstGeom prst="downArrow">
                  <a:avLst>
                    <a:gd name="adj1" fmla="val 49843"/>
                    <a:gd name="adj2" fmla="val 86197"/>
                  </a:avLst>
                </a:prstGeom>
                <a:solidFill>
                  <a:srgbClr val="d9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AutoShape 98"/>
                <p:cNvSpPr/>
                <p:nvPr/>
              </p:nvSpPr>
              <p:spPr>
                <a:xfrm rot="10800000">
                  <a:off x="6012720" y="2881440"/>
                  <a:ext cx="535320" cy="668160"/>
                </a:xfrm>
                <a:prstGeom prst="downArrow">
                  <a:avLst>
                    <a:gd name="adj1" fmla="val 49843"/>
                    <a:gd name="adj2" fmla="val 25916"/>
                  </a:avLst>
                </a:prstGeom>
                <a:solidFill>
                  <a:srgbClr val="d9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" name="AutoShape 70"/>
                <p:cNvSpPr/>
                <p:nvPr/>
              </p:nvSpPr>
              <p:spPr>
                <a:xfrm>
                  <a:off x="3445200" y="2803320"/>
                  <a:ext cx="379800" cy="1342440"/>
                </a:xfrm>
                <a:prstGeom prst="upArrow">
                  <a:avLst>
                    <a:gd name="adj1" fmla="val 49806"/>
                    <a:gd name="adj2" fmla="val 57715"/>
                  </a:avLst>
                </a:prstGeom>
                <a:solidFill>
                  <a:srgbClr val="0070c0"/>
                </a:solidFill>
                <a:ln w="93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AutoShape 72"/>
                <p:cNvSpPr/>
                <p:nvPr/>
              </p:nvSpPr>
              <p:spPr>
                <a:xfrm rot="10800000">
                  <a:off x="4958280" y="2787120"/>
                  <a:ext cx="535320" cy="668160"/>
                </a:xfrm>
                <a:prstGeom prst="downArrow">
                  <a:avLst>
                    <a:gd name="adj1" fmla="val 49843"/>
                    <a:gd name="adj2" fmla="val 25916"/>
                  </a:avLst>
                </a:prstGeom>
                <a:solidFill>
                  <a:srgbClr val="0070c0"/>
                </a:solidFill>
                <a:ln w="93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AutoShape 73"/>
                <p:cNvSpPr/>
                <p:nvPr/>
              </p:nvSpPr>
              <p:spPr>
                <a:xfrm rot="10800000">
                  <a:off x="6832800" y="2727360"/>
                  <a:ext cx="401400" cy="1363680"/>
                </a:xfrm>
                <a:prstGeom prst="downArrow">
                  <a:avLst>
                    <a:gd name="adj1" fmla="val 49843"/>
                    <a:gd name="adj2" fmla="val 70541"/>
                  </a:avLst>
                </a:prstGeom>
                <a:solidFill>
                  <a:srgbClr val="c0504d"/>
                </a:solidFill>
                <a:ln w="25560">
                  <a:solidFill>
                    <a:srgbClr val="e3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64"/>
                <p:cNvSpPr/>
                <p:nvPr/>
              </p:nvSpPr>
              <p:spPr>
                <a:xfrm rot="16200000">
                  <a:off x="4531320" y="1499400"/>
                  <a:ext cx="712080" cy="4066200"/>
                </a:xfrm>
                <a:custGeom>
                  <a:avLst/>
                  <a:gdLst>
                    <a:gd name="textAreaLeft" fmla="*/ 0 w 712080"/>
                    <a:gd name="textAreaRight" fmla="*/ 712440 w 712080"/>
                    <a:gd name="textAreaTop" fmla="*/ 0 h 4066200"/>
                    <a:gd name="textAreaBottom" fmla="*/ 4066560 h 4066200"/>
                  </a:gdLst>
                  <a:ahLst/>
                  <a:rect l="textAreaLeft" t="textAreaTop" r="textAreaRight" b="textAreaBottom"/>
                  <a:pathLst>
                    <a:path w="543162" h="1609012">
                      <a:moveTo>
                        <a:pt x="0" y="1609012"/>
                      </a:moveTo>
                      <a:lnTo>
                        <a:pt x="0" y="305529"/>
                      </a:lnTo>
                      <a:cubicBezTo>
                        <a:pt x="0" y="174288"/>
                        <a:pt x="106392" y="67896"/>
                        <a:pt x="237633" y="67896"/>
                      </a:cubicBezTo>
                      <a:lnTo>
                        <a:pt x="407372" y="67895"/>
                      </a:lnTo>
                      <a:lnTo>
                        <a:pt x="407372" y="0"/>
                      </a:lnTo>
                      <a:lnTo>
                        <a:pt x="543162" y="135791"/>
                      </a:lnTo>
                      <a:lnTo>
                        <a:pt x="407372" y="271581"/>
                      </a:lnTo>
                      <a:lnTo>
                        <a:pt x="407372" y="203686"/>
                      </a:lnTo>
                      <a:lnTo>
                        <a:pt x="237633" y="203686"/>
                      </a:lnTo>
                      <a:cubicBezTo>
                        <a:pt x="181387" y="203686"/>
                        <a:pt x="135790" y="249283"/>
                        <a:pt x="135790" y="305529"/>
                      </a:cubicBezTo>
                      <a:cubicBezTo>
                        <a:pt x="135790" y="740023"/>
                        <a:pt x="135791" y="1174518"/>
                        <a:pt x="135791" y="1609012"/>
                      </a:cubicBezTo>
                      <a:lnTo>
                        <a:pt x="0" y="1609012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25560">
                  <a:solidFill>
                    <a:srgbClr val="e36c0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Cube 65"/>
                <p:cNvSpPr/>
                <p:nvPr/>
              </p:nvSpPr>
              <p:spPr>
                <a:xfrm>
                  <a:off x="786240" y="5714280"/>
                  <a:ext cx="1653120" cy="739800"/>
                </a:xfrm>
                <a:prstGeom prst="cube">
                  <a:avLst>
                    <a:gd name="adj" fmla="val 25976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put Supply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AutoShape 113"/>
                <p:cNvSpPr/>
                <p:nvPr/>
              </p:nvSpPr>
              <p:spPr>
                <a:xfrm>
                  <a:off x="2967120" y="5654520"/>
                  <a:ext cx="903960" cy="806760"/>
                </a:xfrm>
                <a:prstGeom prst="upArrowCallout">
                  <a:avLst>
                    <a:gd name="adj1" fmla="val 28015"/>
                    <a:gd name="adj2" fmla="val 28012"/>
                    <a:gd name="adj3" fmla="val 16667"/>
                    <a:gd name="adj4" fmla="val 66660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Extension servic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AutoShape 114"/>
                <p:cNvSpPr/>
                <p:nvPr/>
              </p:nvSpPr>
              <p:spPr>
                <a:xfrm>
                  <a:off x="3985200" y="5654520"/>
                  <a:ext cx="1814400" cy="806760"/>
                </a:xfrm>
                <a:prstGeom prst="upArrowCallout">
                  <a:avLst>
                    <a:gd name="adj1" fmla="val 50753"/>
                    <a:gd name="adj2" fmla="val 50737"/>
                    <a:gd name="adj3" fmla="val 16667"/>
                    <a:gd name="adj4" fmla="val 66660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Provision of Planting materials &amp; fertilizer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AutoShape 115"/>
                <p:cNvSpPr/>
                <p:nvPr/>
              </p:nvSpPr>
              <p:spPr>
                <a:xfrm>
                  <a:off x="5995080" y="5654520"/>
                  <a:ext cx="903960" cy="806760"/>
                </a:xfrm>
                <a:prstGeom prst="upArrowCallout">
                  <a:avLst>
                    <a:gd name="adj1" fmla="val 28015"/>
                    <a:gd name="adj2" fmla="val 28012"/>
                    <a:gd name="adj3" fmla="val 16667"/>
                    <a:gd name="adj4" fmla="val 66660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Credit servic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AutoShape 116"/>
                <p:cNvSpPr/>
                <p:nvPr/>
              </p:nvSpPr>
              <p:spPr>
                <a:xfrm>
                  <a:off x="7229880" y="5654520"/>
                  <a:ext cx="1012680" cy="806760"/>
                </a:xfrm>
                <a:prstGeom prst="upArrowCallout">
                  <a:avLst>
                    <a:gd name="adj1" fmla="val 31384"/>
                    <a:gd name="adj2" fmla="val 31381"/>
                    <a:gd name="adj3" fmla="val 16667"/>
                    <a:gd name="adj4" fmla="val 66660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Technology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" name="AutoShape 108"/>
                <p:cNvSpPr/>
                <p:nvPr/>
              </p:nvSpPr>
              <p:spPr>
                <a:xfrm>
                  <a:off x="2606400" y="1229400"/>
                  <a:ext cx="1339560" cy="900360"/>
                </a:xfrm>
                <a:prstGeom prst="downArrowCallout">
                  <a:avLst>
                    <a:gd name="adj1" fmla="val 37198"/>
                    <a:gd name="adj2" fmla="val 37195"/>
                    <a:gd name="adj3" fmla="val 16667"/>
                    <a:gd name="adj4" fmla="val 66667"/>
                  </a:avLst>
                </a:prstGeom>
                <a:solidFill>
                  <a:srgbClr val="c0504d"/>
                </a:solidFill>
                <a:ln w="25560">
                  <a:solidFill>
                    <a:srgbClr val="8c38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Calibri"/>
                      <a:ea typeface="Times New Roman"/>
                    </a:rPr>
                    <a:t>Land availability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" name="AutoShape 109"/>
                <p:cNvSpPr/>
                <p:nvPr/>
              </p:nvSpPr>
              <p:spPr>
                <a:xfrm>
                  <a:off x="4743000" y="1219320"/>
                  <a:ext cx="1251720" cy="900360"/>
                </a:xfrm>
                <a:prstGeom prst="downArrowCallout">
                  <a:avLst>
                    <a:gd name="adj1" fmla="val 34759"/>
                    <a:gd name="adj2" fmla="val 34756"/>
                    <a:gd name="adj3" fmla="val 16667"/>
                    <a:gd name="adj4" fmla="val 66667"/>
                  </a:avLst>
                </a:prstGeom>
                <a:solidFill>
                  <a:srgbClr val="c0504d"/>
                </a:solidFill>
                <a:ln w="25560">
                  <a:solidFill>
                    <a:srgbClr val="8c38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Calibri"/>
                      <a:ea typeface="Times New Roman"/>
                    </a:rPr>
                    <a:t>Law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AutoShape 110"/>
                <p:cNvSpPr/>
                <p:nvPr/>
              </p:nvSpPr>
              <p:spPr>
                <a:xfrm>
                  <a:off x="6833160" y="1270440"/>
                  <a:ext cx="1182600" cy="900360"/>
                </a:xfrm>
                <a:prstGeom prst="downArrowCallout">
                  <a:avLst>
                    <a:gd name="adj1" fmla="val 32840"/>
                    <a:gd name="adj2" fmla="val 32837"/>
                    <a:gd name="adj3" fmla="val 16667"/>
                    <a:gd name="adj4" fmla="val 66667"/>
                  </a:avLst>
                </a:prstGeom>
                <a:solidFill>
                  <a:srgbClr val="c0504d"/>
                </a:solidFill>
                <a:ln w="25560">
                  <a:solidFill>
                    <a:srgbClr val="8c38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Calibri"/>
                      <a:ea typeface="Times New Roman"/>
                    </a:rPr>
                    <a:t>Drought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AutoShape 70"/>
                <p:cNvSpPr/>
                <p:nvPr/>
              </p:nvSpPr>
              <p:spPr>
                <a:xfrm rot="16200000">
                  <a:off x="5067360" y="3525120"/>
                  <a:ext cx="360720" cy="1630440"/>
                </a:xfrm>
                <a:prstGeom prst="upArrow">
                  <a:avLst>
                    <a:gd name="adj1" fmla="val 49806"/>
                    <a:gd name="adj2" fmla="val 63970"/>
                  </a:avLst>
                </a:prstGeom>
                <a:solidFill>
                  <a:srgbClr val="0070c0"/>
                </a:solidFill>
                <a:ln w="93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41" name="Straight Connector 76"/>
          <p:cNvSpPr/>
          <p:nvPr/>
        </p:nvSpPr>
        <p:spPr>
          <a:xfrm>
            <a:off x="636480" y="2135160"/>
            <a:ext cx="7898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79"/>
          <p:cNvSpPr/>
          <p:nvPr/>
        </p:nvSpPr>
        <p:spPr>
          <a:xfrm>
            <a:off x="609480" y="5562720"/>
            <a:ext cx="778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51"/>
          <p:cNvSpPr/>
          <p:nvPr/>
        </p:nvSpPr>
        <p:spPr>
          <a:xfrm>
            <a:off x="762120" y="3962520"/>
            <a:ext cx="1557360" cy="79524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38160">
            <a:solidFill>
              <a:srgbClr val="0070c0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s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tle 1"/>
          <p:cNvSpPr/>
          <p:nvPr/>
        </p:nvSpPr>
        <p:spPr>
          <a:xfrm>
            <a:off x="1447920" y="380880"/>
            <a:ext cx="647676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Feed marketing channels identified #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304920" y="1154880"/>
            <a:ext cx="85341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1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y of teff straw from Debrezeit areas to Adama beef fatten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hannel 2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y of grass hay from Sululta and Sendafa areas to Adama area beef fattener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hannel 3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Molasses from wonji and Metahara sugar factories  to Adama areas beef fattener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Channel 4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y of oil cake and flour mill by products to Adama areas beef fatten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Channel 5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y of crop residues (teff straw, wheat straw and maize Stover for fattening purpose by farmers of Adama area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80880" y="1295280"/>
          <a:ext cx="8610840" cy="3479760"/>
        </p:xfrm>
        <a:graphic>
          <a:graphicData uri="http://schemas.openxmlformats.org/drawingml/2006/table">
            <a:tbl>
              <a:tblPr/>
              <a:tblGrid>
                <a:gridCol w="2133720"/>
                <a:gridCol w="838080"/>
                <a:gridCol w="1067040"/>
                <a:gridCol w="990360"/>
                <a:gridCol w="685800"/>
                <a:gridCol w="990720"/>
                <a:gridCol w="990720"/>
                <a:gridCol w="914400"/>
              </a:tblGrid>
              <a:tr h="5288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Export Abattoi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chers-I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 ma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chers-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chers-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chers-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ers selling price (Birr/head) to d/t ac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ling price (Birr/hea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ing cost (Birr/hea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ing margin (Birr/hea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 margin (Birr/head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er's share of final pric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609480" y="304920"/>
            <a:ext cx="8077320" cy="7617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and margins of actors involved in the Beef marketing channel and the Share of producers from final 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33520" y="51055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 Abattoirs , in this case they are producing for domestic consumption , i.e 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upermarkets, hotels, Universities &amp; institutio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ts and margin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ctors involved in a market channel selling crop residue (Teff straw)  and concentrate to user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3520" y="1295280"/>
          <a:ext cx="8001000" cy="1976400"/>
        </p:xfrm>
        <a:graphic>
          <a:graphicData uri="http://schemas.openxmlformats.org/drawingml/2006/table">
            <a:tbl>
              <a:tblPr/>
              <a:tblGrid>
                <a:gridCol w="4800600"/>
                <a:gridCol w="1143000"/>
                <a:gridCol w="2057400"/>
              </a:tblGrid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 per One donkey cart (10 Bal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 trader/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ling price (Birr/10ball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eting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eting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er's share of final price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33520" y="3962520"/>
          <a:ext cx="8001000" cy="1976400"/>
        </p:xfrm>
        <a:graphic>
          <a:graphicData uri="http://schemas.openxmlformats.org/drawingml/2006/table">
            <a:tbl>
              <a:tblPr/>
              <a:tblGrid>
                <a:gridCol w="4876560"/>
                <a:gridCol w="1143000"/>
                <a:gridCol w="1981440"/>
              </a:tblGrid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 per One quintal of (concentrate) stra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 trader/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ling price (Birr/10ball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eting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eting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er's share of final price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4"/>
          <p:cNvSpPr/>
          <p:nvPr/>
        </p:nvSpPr>
        <p:spPr>
          <a:xfrm>
            <a:off x="531720" y="838080"/>
            <a:ext cx="2678400" cy="3682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p residue (Teff stra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541080" y="3505320"/>
            <a:ext cx="1387800" cy="3682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162560" cy="4111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s along the Beef value chain</a:t>
            </a: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Input Supp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age of feed supply (quantity &amp; Quali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awareness about feed formul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fficient vet services &amp; supply of vet dru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ufficient provision  of credit and problematic collateral arrang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Prod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feed cost &amp; low conversion ratio of older anim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skill and knowledge with regard to profitable beef prod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Process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level technology take up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sanitary pract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level of technical skill &amp; knowledge of the staf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ontent Placeholder 2"/>
          <p:cNvSpPr/>
          <p:nvPr/>
        </p:nvSpPr>
        <p:spPr>
          <a:xfrm>
            <a:off x="457200" y="51055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st of sell and unfair distribution of the food i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st of marketing margin to end actors in the ch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chilling facilities (most of the traders) commod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types of salable commodities at retail sh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udulent brokerage  in the marke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e of fraudulent slaughter and weak regulatory services (Road side slaughter, back yard slaughte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fasting days of the Orthodox Christian follow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consumers’ knowledge on eating preference (as raw mea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Constraints in feed value chai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7617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put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d shor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age of seed and other planting mate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training on forage production and pasture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age of raw materials for agro-industries and feed processing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productivity of pasture; Lack of forage production sk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effcient feed preservation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w processing plants that are congested around Add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of them operate under their installed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quality control on fe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8380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ama Are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f the major beef animal source for the domestic markets of Adama-Addis Ababa are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s proximity to the large consumer base in Addis Abab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s of the area have got Long tradition in Fattening cattl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important means of livelihood for the farmer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study villages, cattle are the dominant livestock species having multiple functions i.e. traction, income sou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d scarcity is a major problem that limits animal productivit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ment in livestock productivity can be achieved by alleviating feed constraint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’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sonality in availability and price of f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transportation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ence of feed quality control in the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actors monopolizing the concentrate feed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feed price &amp; Shortage of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awareness on improved fe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adult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transportation co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level of understanding of feed quality by 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ies identif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number of cattle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creasingly high demand for beef meat and animal feed in local mark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opulation growth with better income and demand for better quality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ing livestock industry with high demand for better quality fee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8683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ssons learne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ef and feed production constraints in the study area are identifie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intervention should focus to solve constraints indicated in the areas of the 5 core functions (input supply, production, processing, marketing and Consump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beef and feed market channels identified by this stud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560" y="6094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 &amp; Objectiv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2952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tudy is limited to small scale beef produc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objectiv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is study is to select the best bet Feed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ribe and map the core functions and major actors involved and their market channels in each value chain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dentifying major constraints and opportunities in each value chain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sting and further refining of the VCA tool for wider scale use in the future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3805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ampling procedur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ama was selec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kebeles based on their proximity to input &amp; output market were purposively selected with wereda staff thus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villages were kechema &amp; Kuriftu wenj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otal of 40 producers particip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ource of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data and review of relevant literatures were undertaken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 was conducted with producers for production and marketing issues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ocused group discussions using a checklist prepared for this purpose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informant interview conducted with, Input suppliers, traders, processors, retailers and consumers,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ata analysi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 conducted using simple descriptive statistics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METHOD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412640"/>
            <a:ext cx="309708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33cc"/>
                </a:solidFill>
                <a:latin typeface="Calibri"/>
              </a:rPr>
              <a:t>Adama Distri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cc"/>
                </a:solidFill>
                <a:latin typeface="Calibri"/>
              </a:rPr>
              <a:t>Keche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cc"/>
                </a:solidFill>
                <a:latin typeface="Calibri"/>
              </a:rPr>
              <a:t>Wonji Kurift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cc"/>
                </a:solidFill>
                <a:latin typeface="Calibri"/>
              </a:rPr>
              <a:t>An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33cc"/>
                </a:solidFill>
                <a:latin typeface="Calibri"/>
              </a:rPr>
              <a:t>Targeted value chain actors as we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635280" y="1125360"/>
            <a:ext cx="53643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68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hodolog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1219320"/>
            <a:ext cx="8496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urift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echema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M        5F                                                                                  11M       9F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Criteria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near market (input &amp; Outputs sourc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other Relatively far from market (input &amp; Outputs source)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E672-FD55-4C33-8EE9-F9EBDE1E3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17"/>
          <p:cNvGrpSpPr/>
          <p:nvPr/>
        </p:nvGrpSpPr>
        <p:grpSpPr>
          <a:xfrm>
            <a:off x="761400" y="1447560"/>
            <a:ext cx="7620480" cy="1753200"/>
            <a:chOff x="761400" y="1447560"/>
            <a:chExt cx="7620480" cy="1753200"/>
          </a:xfrm>
        </p:grpSpPr>
        <p:sp>
          <p:nvSpPr>
            <p:cNvPr id="61" name="Oval 3"/>
            <p:cNvSpPr/>
            <p:nvPr/>
          </p:nvSpPr>
          <p:spPr>
            <a:xfrm>
              <a:off x="3429000" y="2295720"/>
              <a:ext cx="2991240" cy="828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Village Si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2" name="Straight Arrow Connector 5"/>
            <p:cNvCxnSpPr/>
            <p:nvPr/>
          </p:nvCxnSpPr>
          <p:spPr>
            <a:xfrm flipH="1">
              <a:off x="761400" y="1752480"/>
              <a:ext cx="323640" cy="144864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/>
            <p:nvPr/>
          </p:nvCxnSpPr>
          <p:spPr>
            <a:xfrm>
              <a:off x="1650960" y="1752480"/>
              <a:ext cx="168480" cy="142992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4" name="Straight Arrow Connector 15"/>
            <p:cNvCxnSpPr/>
            <p:nvPr/>
          </p:nvCxnSpPr>
          <p:spPr>
            <a:xfrm flipH="1">
              <a:off x="7544160" y="1447560"/>
              <a:ext cx="582120" cy="147636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5" name="Straight Arrow Connector 16"/>
            <p:cNvCxnSpPr/>
            <p:nvPr/>
          </p:nvCxnSpPr>
          <p:spPr>
            <a:xfrm>
              <a:off x="8229240" y="1523880"/>
              <a:ext cx="153000" cy="144864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66" name="Oval 10"/>
          <p:cNvSpPr/>
          <p:nvPr/>
        </p:nvSpPr>
        <p:spPr>
          <a:xfrm>
            <a:off x="3276720" y="1219320"/>
            <a:ext cx="2820960" cy="828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stri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6" descr="C:\Documents and Settings\Addisu\Desktop\ILRI-Consultancy\Pictures of Survey-Adama &amp; Arsi-Negele-15-4-2012\Adama\DSC02560.JPG"/>
          <p:cNvPicPr/>
          <p:nvPr/>
        </p:nvPicPr>
        <p:blipFill>
          <a:blip r:embed="rId1"/>
          <a:stretch/>
        </p:blipFill>
        <p:spPr>
          <a:xfrm>
            <a:off x="6477120" y="4724280"/>
            <a:ext cx="2590560" cy="146556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6"/>
          <p:cNvGrpSpPr/>
          <p:nvPr/>
        </p:nvGrpSpPr>
        <p:grpSpPr>
          <a:xfrm>
            <a:off x="457200" y="1143000"/>
            <a:ext cx="8305920" cy="4952880"/>
            <a:chOff x="457200" y="1143000"/>
            <a:chExt cx="8305920" cy="4952880"/>
          </a:xfrm>
        </p:grpSpPr>
        <p:sp>
          <p:nvSpPr>
            <p:cNvPr id="69" name="Rectangle 7"/>
            <p:cNvSpPr/>
            <p:nvPr/>
          </p:nvSpPr>
          <p:spPr>
            <a:xfrm>
              <a:off x="457200" y="1143000"/>
              <a:ext cx="8305920" cy="49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2133360" y="2590560"/>
              <a:ext cx="4419720" cy="1035000"/>
            </a:xfrm>
            <a:prstGeom prst="pie">
              <a:avLst/>
            </a:prstGeom>
            <a:solidFill>
              <a:srgbClr val="b7dee8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559800" tIns="193320" bIns="19332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Group discussion with farmers: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Kechema 20 (15 men and 5 women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kuriftu 20 (11 men and 9 women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533880" y="2473560"/>
              <a:ext cx="1599480" cy="1336320"/>
            </a:xfrm>
            <a:prstGeom prst="pie">
              <a:avLst/>
            </a:prstGeom>
            <a:solidFill>
              <a:srgbClr val="31859c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360" rIns="144360" tIns="106200" bIns="106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PRA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Exerci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2057400" y="4321800"/>
              <a:ext cx="4343400" cy="1035000"/>
            </a:xfrm>
            <a:prstGeom prst="pie">
              <a:avLst/>
            </a:prstGeom>
            <a:solidFill>
              <a:srgbClr val="b7dee8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40" rIns="714240" tIns="246240" bIns="2462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601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Questioner survey on key value chain Actors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49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Quantitative</a:t>
              </a: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information   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533880" y="4025880"/>
              <a:ext cx="1446840" cy="1155240"/>
            </a:xfrm>
            <a:prstGeom prst="pie">
              <a:avLst/>
            </a:prstGeom>
            <a:solidFill>
              <a:srgbClr val="31859c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360" rIns="144360" tIns="106200" bIns="1062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Individual actor interview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2225880" y="5652360"/>
              <a:ext cx="4230000" cy="443520"/>
            </a:xfrm>
            <a:prstGeom prst="pie">
              <a:avLst/>
            </a:prstGeom>
            <a:solidFill>
              <a:srgbClr val="b7dee8">
                <a:alpha val="9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40" rIns="530280" tIns="184680" bIns="18468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Data gathered synthesized in to report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477A-18FA-4CCF-8161-0B54E5530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608960" cy="6336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ethodology of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he VCA To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0" descr="C:\Documents and Settings\Addisu\Desktop\ILRI-Consultancy\Pictures of Survey-Adama &amp; Arsi-Negele-15-4-2012\Adama-Farmers\DSC02219.JPG"/>
          <p:cNvPicPr/>
          <p:nvPr/>
        </p:nvPicPr>
        <p:blipFill>
          <a:blip r:embed="rId2"/>
          <a:stretch/>
        </p:blipFill>
        <p:spPr>
          <a:xfrm>
            <a:off x="6477120" y="2590920"/>
            <a:ext cx="2466720" cy="1850760"/>
          </a:xfrm>
          <a:prstGeom prst="rect">
            <a:avLst/>
          </a:prstGeom>
          <a:ln w="0">
            <a:noFill/>
          </a:ln>
        </p:spPr>
      </p:pic>
      <p:sp>
        <p:nvSpPr>
          <p:cNvPr id="78" name="Freeform 23"/>
          <p:cNvSpPr/>
          <p:nvPr/>
        </p:nvSpPr>
        <p:spPr>
          <a:xfrm>
            <a:off x="762120" y="5410080"/>
            <a:ext cx="1371600" cy="914400"/>
          </a:xfrm>
          <a:prstGeom prst="pie">
            <a:avLst/>
          </a:prstGeom>
          <a:solidFill>
            <a:srgbClr val="31859c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0760" rIns="140760" tIns="102600" bIns="102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alysis &amp; Repor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24"/>
          <p:cNvSpPr/>
          <p:nvPr/>
        </p:nvSpPr>
        <p:spPr>
          <a:xfrm>
            <a:off x="380880" y="838080"/>
            <a:ext cx="1930680" cy="1549440"/>
          </a:xfrm>
          <a:prstGeom prst="pie">
            <a:avLst/>
          </a:prstGeom>
          <a:solidFill>
            <a:srgbClr val="31859c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360" rIns="144360" tIns="106200" bIns="106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view of Available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25"/>
          <p:cNvSpPr/>
          <p:nvPr/>
        </p:nvSpPr>
        <p:spPr>
          <a:xfrm>
            <a:off x="2362320" y="1143000"/>
            <a:ext cx="4252680" cy="1066680"/>
          </a:xfrm>
          <a:prstGeom prst="pie">
            <a:avLst/>
          </a:prstGeom>
          <a:solidFill>
            <a:srgbClr val="b7dee8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" rIns="559800" tIns="193320" bIns="193320" anchor="ctr">
            <a:noAutofit/>
          </a:bodyPr>
          <a:p>
            <a:pPr lvl="1" marL="171360" indent="-17136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search results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evious stud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econdary 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7" descr="C:\Documents and Settings\Addisu\Desktop\ILRI-Consultancy\Pictures of Survey-Adama &amp; Arsi-Negele-15-4-2012\Butcher\DSC02968.JPG"/>
          <p:cNvPicPr/>
          <p:nvPr/>
        </p:nvPicPr>
        <p:blipFill>
          <a:blip r:embed="rId3"/>
          <a:stretch/>
        </p:blipFill>
        <p:spPr>
          <a:xfrm>
            <a:off x="6553080" y="762120"/>
            <a:ext cx="22482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E1A3-8824-4215-97F8-F2B8251C0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295280" y="1371600"/>
            <a:ext cx="601992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and discu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Object 3" descr=""/>
          <p:cNvPicPr/>
          <p:nvPr/>
        </p:nvPicPr>
        <p:blipFill>
          <a:blip r:embed="rId1"/>
          <a:stretch/>
        </p:blipFill>
        <p:spPr>
          <a:xfrm>
            <a:off x="609480" y="557280"/>
            <a:ext cx="8156520" cy="5843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83520" cy="6094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re function in Beef Value Ch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6T22:16:11Z</dcterms:created>
  <dc:creator>User</dc:creator>
  <dc:description/>
  <dc:language>en-US</dc:language>
  <cp:lastModifiedBy>PBallantyne</cp:lastModifiedBy>
  <dcterms:modified xsi:type="dcterms:W3CDTF">2012-06-04T17:50:59Z</dcterms:modified>
  <cp:revision>236</cp:revision>
  <dc:subject/>
  <dc:title>Slide 1</dc:title>
</cp:coreProperties>
</file>